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9969BE-C600-4382-A7B4-0B136355A32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BA10EE-FD85-4360-9708-2A641CAB9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3114E8-919C-49FA-84A7-66C3B17C2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3073AB-B496-4398-88E6-08F3DE3A1C4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732D6D-DEE4-4750-A35E-C3AC28A8C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6558B2-B150-43B7-944E-ADA7609CA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2CA9AD-DC17-4222-88CF-8B0E92885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99E706-4B5B-416E-882B-53E35B4E1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5A5088-9891-4C5C-8C62-5B00A33D5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4D5A45-6C4D-4A0B-B004-BBBA33FDE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FF9562-BE6F-4A64-A7BE-FBD9FA12A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26DBFE-F0C6-40F1-9F43-20E5FACF8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7D2F7-3078-492C-9777-1868E5681121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29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2"/>
          <p:cNvSpPr/>
          <p:nvPr/>
        </p:nvSpPr>
        <p:spPr>
          <a:xfrm>
            <a:off x="0" y="2492280"/>
            <a:ext cx="7704000" cy="18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  <a:ea typeface="宋体"/>
              </a:rPr>
              <a:t>第四章   康复护理治疗技术          </a:t>
            </a:r>
            <a:br>
              <a:rPr sz="3600"/>
            </a:br>
            <a:r>
              <a:rPr b="1" lang="zh-CN" sz="3600" spc="-1" strike="noStrike">
                <a:solidFill>
                  <a:srgbClr val="ff0000"/>
                </a:solidFill>
                <a:latin typeface="宋体"/>
                <a:ea typeface="宋体"/>
              </a:rPr>
              <a:t>    第一节   康复护理专业技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宋体"/>
                <a:ea typeface="宋体"/>
              </a:rPr>
              <a:t>(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  <a:ea typeface="宋体"/>
              </a:rPr>
              <a:t>五、六、七、八</a:t>
            </a:r>
            <a:r>
              <a:rPr b="1" lang="en-US" sz="3600" spc="-1" strike="noStrike">
                <a:solidFill>
                  <a:srgbClr val="ff0000"/>
                </a:solidFill>
                <a:latin typeface="宋体"/>
                <a:ea typeface="宋体"/>
              </a:rPr>
              <a:t>)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  <a:ea typeface="宋体"/>
              </a:rPr>
              <a:t>  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6227640" y="5157720"/>
            <a:ext cx="230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Arial"/>
                <a:ea typeface="宋体"/>
              </a:rPr>
              <a:t>吴丽娜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771280" y="333000"/>
            <a:ext cx="3900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六、肠道护理技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4360" y="1483920"/>
            <a:ext cx="7775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大肠是参与人体排便活动的主要器官，分盲肠、结肠、直肠和肛管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个部分。肠道疾病或其他系统的疾病均可影响正常排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排便活动受大脑皮质控制，意识可促进或抑制排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神经源性直肠是因控制直肠的神经系统疾病或外伤、药物、认知障碍、减少活动所引起的排便功能减弱或丧失，最终表现为排便失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8000" y="1280880"/>
            <a:ext cx="5472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一）影响排便活动的因素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95280" y="19807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心理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食物与液体摄入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活动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治疗和检查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3981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二）肠道护理技术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78920" y="234900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肠道护理技术是帮助患者建立在规定时间内定期排便的规律，消除或减少由于大便失禁造成的日常生活不便，预防因便秘、腹泻及大便失禁导致的并发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-108360" y="1196640"/>
            <a:ext cx="55580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反射性大肠的护理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69880" y="17204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指力刺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腹部按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肠道功能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药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饮食与运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9280" y="1268280"/>
            <a:ext cx="4775400" cy="5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弛缓性大肠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98600" y="2152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观察排便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手指协助排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肠道功能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皮肤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饮食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6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心理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44600" y="1351080"/>
            <a:ext cx="3047760" cy="5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三）注意事项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23640" y="1844280"/>
            <a:ext cx="8064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做好心理护理：注意心理疏导 ，减轻患者的精神紧张和心理压力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,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尊重患者人格，鼓励树立信心，使患者认识到排便训练要持之以恒，坚持几周甚至数月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肠道训练时间符合患者的生活规律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,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根据具体情况适当调整，以建立良好的排便规律，尽量少用或不用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保持室内空气新鲜，去除不良气味，开窗通风，及时更换床单、衣被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203640" y="333360"/>
            <a:ext cx="3457440" cy="5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七、膀胱护理技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膀胱为锥体形、具有伸展性的囊状肌性器官，位于骨盆内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,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主要功能是储尿和排尿。正常的排尿活动由脊髓反射中枢及交感、副交感、体神经共同参与，任何与排尿有关的神经受到损害后均可引起排尿功能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膀胱护理技术是针对因神经损伤导致的膀胱、尿道功能失调而实施的特殊护理，其主要目的是恢复和改善膀胱控制能力，减少残余尿，控制和消除泌尿系统并发症，保护肾功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5207040" cy="5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一）影响排尿活动的因素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24000" y="191736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心理因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排尿习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饮食种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气候变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治疗及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6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疾病，如神经系统的损伤和病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99880" y="1280880"/>
            <a:ext cx="51357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二）膀胱护理技术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23640" y="2133720"/>
            <a:ext cx="81356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尿潴留患者护理技术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6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膀胱内潴留大量尿液又不能自主排出，称为尿潴留。患者主要表现为下腹胀痛、排尿困难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体检可见耻骨上膨隆，扪及囊样包块，叩诊实音。护理目的为促使膀胱排空，减轻患者痛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49320" y="1125360"/>
            <a:ext cx="4486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尿潴留患者护理技术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25520" y="177336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心理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排尿环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调整体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激发诱导排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Valsalva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屏气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6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Crede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按压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7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间歇性清洁导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8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留置导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555640" y="333000"/>
            <a:ext cx="3600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　　</a:t>
            </a: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知道皮肤护理技术的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说出影响排便活动的因素有哪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解释神经源性膀胱的含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归纳膀胱护理技术的几个方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了解放松训练技术的种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-684720" y="1279440"/>
            <a:ext cx="5040360" cy="5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尿失禁的护理技术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24000" y="227664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排尿失去控制，尿液不自主地流出，称为尿失禁。尿失禁的护理目的主要是帮助患者解除痛苦，促使膀胱储尿，恢复膀胱功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-252720" y="1268280"/>
            <a:ext cx="4630680" cy="5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尿失禁的护理技术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24000" y="21337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心理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皮肤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尿意习惯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盆底肌锻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接尿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6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留置导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4360" y="1125360"/>
            <a:ext cx="56880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三）膀胱护理时的注意事项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920" y="1731600"/>
            <a:ext cx="8610480" cy="472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导尿时严格遵守无菌操作原则，观察尿液情况，以防感染。注意保护患者隐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注意倾听患者主诉。对膀胱高度膨胀且极度虚弱的患者，第一次放尿不得超过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000ml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。注意观察因膀胱压力过高而引起的自主神经反射亢进的临床表现，如出现突发性血压升高、皮肤潮红、出汗、头痛等反应，应及时导尿，排空膀胱，缓解压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间歇导尿时，操作手法力求轻柔、熟练，需润滑导尿管，以免损伤尿道黏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留置导尿后，在尿管未阻塞情况下，不提倡常规膀胱冲洗，防止逆行感染。鼓励患者多饮水以利排尿，达到自行冲洗的目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膀胱训练前要接受尿流动力学检查，以确认膀胱类型和安全的训练方法，避免因训练方法不当而引起尿液反流造成肾积水等并发症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203640" y="333360"/>
            <a:ext cx="4176720" cy="5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八、放松训练技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68000" y="1557000"/>
            <a:ext cx="820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放松训练又称肌肉松弛训练或自我调整疗法，是通过各种固定的训练程序，使患者学会生理上和躯体上放松的一组行为治疗方法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放松训练可以使患者肌肉放松，具有消除紧张和疲劳、缓解疼痛、镇静、催眠等作用，让患者处于休息、放松状态，利于患者全面康复。放松训练可以在任何体位进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10920" y="1196640"/>
            <a:ext cx="5040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一）肌肉放松的方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78920" y="184428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渐进性放松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①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腕关节伸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②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腕关节屈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③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肘关节屈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④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肘关节伸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⑤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踝关节背屈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" name="Text Box 4"/>
          <p:cNvSpPr/>
          <p:nvPr/>
        </p:nvSpPr>
        <p:spPr>
          <a:xfrm>
            <a:off x="4701600" y="2639880"/>
            <a:ext cx="1864800" cy="27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⑥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踝关节跖屈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⑦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膝关节伸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⑧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膝关节屈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⑨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髋关节屈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⑩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髋关节伸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99640" y="1064880"/>
            <a:ext cx="4248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钟摆样摆动法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39280" y="1916280"/>
            <a:ext cx="86108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将上肢或下肢置于下垂位，前后放松摆动，直到肢端出现明显的麻木感为止，也可加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0.4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0kg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重量的物体于肢端，然后再做摆动，以提高肌肉放松的程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仰卧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坐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立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步行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25520" y="177336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深呼吸放松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其他放松措施，如听音乐或放松指导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26920" y="1484280"/>
            <a:ext cx="56167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二）放松训练的注意事项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52360" y="206064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选择适合放松训练的环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向患者介绍放松训练的意义、目的、方法、持续时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选择患者最易放松的体位，训练时要使受训的肌肉完全放松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训练时要选择准确的练习姿势和准备姿势，认真观察动作完成的情况，避免出现错误动作和动作颠倒。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和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颠倒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626920" y="333000"/>
            <a:ext cx="4125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五、皮肤护理技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25080" y="1557360"/>
            <a:ext cx="80629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完整的皮肤具有天然屏障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皮肤具有保护机体、调节体温、吸收、分泌、排泄及感觉功能。皮肤的新陈代谢迅速，其代谢产物如皮脂、汗液及表皮碎屑等与外界细菌、尘埃结合形成污垢，黏附于皮肤表面，如不及时清除，可刺激皮肤，降低皮肤抵抗力，以致破坏皮肤的屏障作用，成为细菌入侵的门户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68360" y="1483920"/>
            <a:ext cx="799128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全身一般情况良好的患者可行淋浴或盆浴。  对能在轮椅上坐位坚持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0min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以上、健侧肢体肌力良好、全身症状稳定的患者，可进行淋浴或盆浴训练，以提高生活自理能力，增强患者自信心。以偏瘫患者的淋浴或盆浴训练为例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" name="Text Box 3"/>
          <p:cNvSpPr/>
          <p:nvPr/>
        </p:nvSpPr>
        <p:spPr>
          <a:xfrm>
            <a:off x="4762440" y="333360"/>
            <a:ext cx="54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五、皮肤护理技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626920" y="333000"/>
            <a:ext cx="40546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（一）洗脸、洗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50560" y="1628280"/>
            <a:ext cx="8893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患者坐在水池前，用健手打开水龙头放水，调节水温，洗脸、洗患手及前臂。洗健手时，患手贴在水池边伸开放置或将毛巾固定在水池边缘，涂香皂，健手及前臂在患手或毛巾上搓洗。拧毛巾时，可将毛巾套在水龙头上或患侧前臂上，用健手将两端合拢，向一个方向拧干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79280" y="333000"/>
            <a:ext cx="3537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（二）洗澡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79280" y="1371240"/>
            <a:ext cx="8731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盆浴患者坐在紧靠浴盆的椅子上，脱去衣物，用双手托住患腿放入盆内，再用健手握住盆沿，健腿撑起身体前倾，抬起臀部移至盆内椅子上，把健腿放入盆内。洗涤时，用健手持毛巾擦洗或将毛巾一端缝上布套，套于患臂上协助擦洗，也可借用长柄的海绵浴刷擦洗背部和身体的远端。拧干毛巾时，将其压在腿下或夹在患侧腋下，健手拧干，洗毕出浴盆顺序与前面步骤相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淋浴患者可坐在淋浴凳或椅子上，先开冷水管，后开热水管调节水温，淋浴较容易进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69480" y="1135080"/>
            <a:ext cx="4681800" cy="5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3.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洗澡训练时的注意事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50560" y="1484280"/>
            <a:ext cx="878508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训练前做好各项准备，如向患者解释训练的目的、方法、注意事项，根据需要协助患者排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根据季节调节浴室温度，一般在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4℃±2℃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，水温在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0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5℃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训练时操作者在旁保护，患者出入浴室穿防滑拖鞋，洗澡时间不宜过长，以免发生意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观察患者沐浴过程中反应，如遇患者发生晕厥或滑跌等意外，立即将患者抬出，配合医生及时处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妊娠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7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个月以上的孕妇，衰弱、创伤和患心脏病需要卧床休息的患者均不宜盆浴或淋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892240" y="333000"/>
            <a:ext cx="3119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（三）床上擦浴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78920" y="1125360"/>
            <a:ext cx="828036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对病情较重、长期卧床、生活不能自理患者采用床上擦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按要求准备好用物后，携至病床旁边，向患者解释目的、方法、注意事项，根据需要协助患者排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按顺序用温水为患者擦洗脸部及颈部、上肢和手、胸部、腹部和背部，最后擦洗下肢、足部和会阴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整理床单位，清理用物，放回原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74760" y="1052280"/>
            <a:ext cx="48448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床上擦浴时的注意事项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室温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2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6℃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，水温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1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6℃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注意保暖，擦洗时随时为患者盖好，避免不必要的暴露以防着凉，一般在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5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0min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内完成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动作轻稳、敏捷，皮肤皱褶处要擦洗干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观察病情，如出现寒战、面色苍白、脉速等征象，立即停止擦洗，给予适当处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穿脱衣服顺序：先穿远侧，后穿近侧；如为偏瘫患者或有伤口者，先穿患侧，后穿健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cp:keywords/>
  <dc:language>en-US</dc:language>
  <cp:lastModifiedBy>Guest2</cp:lastModifiedBy>
  <cp:lastPrinted>1899-12-30T00:00:00Z</cp:lastPrinted>
  <dcterms:modified xsi:type="dcterms:W3CDTF">2015-12-16T06:29:33Z</dcterms:modified>
  <cp:revision>18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369</vt:lpwstr>
  </property>
</Properties>
</file>